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9806-AF5E-4DF0-BFD8-781106EDD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0D0B-649F-46B1-A104-6F50B93D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444D-D4B3-47F7-B7B9-CFBE31AF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8EA0-DC97-4EDA-9BB6-CE3706DE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BCC9-02C5-482D-8251-F58F3516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5E7F-D474-4F71-AAA1-3662209C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0D5A-73E6-4D88-931B-6E45214F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CF76-4D6E-4774-BF98-0CC4174B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6356-8615-4101-A5AB-F961BC99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ACA5-4F18-461B-B211-AA7D594E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BFC6-1CD9-4EC0-9719-2FFB9BF8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C70A-60B8-4D66-BD93-F1450238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8836-9EEC-4966-8ABA-D9DD028CD5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DC4D-E026-4078-9A2E-BA936731761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667160" y="457200"/>
            <a:ext cx="560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unctional Maths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169800" y="1500120"/>
            <a:ext cx="266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esign a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7"/>
          <p:cNvGrpSpPr/>
          <p:nvPr/>
        </p:nvGrpSpPr>
        <p:grpSpPr>
          <a:xfrm>
            <a:off x="2428920" y="2357280"/>
            <a:ext cx="4500360" cy="4284720"/>
            <a:chOff x="2428920" y="2357280"/>
            <a:chExt cx="4500360" cy="4284720"/>
          </a:xfrm>
        </p:grpSpPr>
        <p:sp>
          <p:nvSpPr>
            <p:cNvPr id="44" name="TextBox 6"/>
            <p:cNvSpPr/>
            <p:nvPr/>
          </p:nvSpPr>
          <p:spPr>
            <a:xfrm>
              <a:off x="3489840" y="2357280"/>
              <a:ext cx="2034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Comic Sans MS"/>
                </a:rPr>
                <a:t>Farm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Picture 7" descr="http://www.toonpool.com/user/173/files/the_farmer_250875.jpg"/>
            <p:cNvPicPr/>
            <p:nvPr/>
          </p:nvPicPr>
          <p:blipFill>
            <a:blip r:embed="rId1"/>
            <a:stretch/>
          </p:blipFill>
          <p:spPr>
            <a:xfrm>
              <a:off x="2428920" y="3428640"/>
              <a:ext cx="4500360" cy="32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Rounded Rectangular Callout 9"/>
          <p:cNvSpPr/>
          <p:nvPr/>
        </p:nvSpPr>
        <p:spPr>
          <a:xfrm>
            <a:off x="0" y="3786120"/>
            <a:ext cx="2428920" cy="1214640"/>
          </a:xfrm>
          <a:prstGeom prst="wedgeRoundRectCallout">
            <a:avLst>
              <a:gd name="adj1" fmla="val 57888"/>
              <a:gd name="adj2" fmla="val 90648"/>
              <a:gd name="adj3" fmla="val 16667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earning Objective: Think about Perimeter and Area in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612360" y="844560"/>
            <a:ext cx="55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ou must grow at least three types of vege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571680" y="449748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f you have goats and at least two other animals you will add an extra £100 to your total value from school vis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571680" y="16430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t least a half of your chickens have to be free range to stop animal rights protes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560160" y="2786040"/>
            <a:ext cx="50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ou only have 150 lengths of fencing to 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545400" y="3643200"/>
            <a:ext cx="42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ou must include the farm build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571680" y="5640480"/>
            <a:ext cx="773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nly up to half of your animals are allowed to be used for meat so that they can repopu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4243680" y="0"/>
            <a:ext cx="4836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: Think about perimeter and area in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0" y="571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nce you have designed your farm you need to glue it on to an A3 piece of pap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468000" y="5857920"/>
            <a:ext cx="83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round the outside your should add details about your different farm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4243680" y="0"/>
            <a:ext cx="4836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: Think about perimeter and area in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1738440" y="1428840"/>
            <a:ext cx="5667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2741760" y="57168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our task is to design a fa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5"/>
          <p:cNvGrpSpPr/>
          <p:nvPr/>
        </p:nvGrpSpPr>
        <p:grpSpPr>
          <a:xfrm>
            <a:off x="312120" y="1214280"/>
            <a:ext cx="8640360" cy="4869000"/>
            <a:chOff x="312120" y="1214280"/>
            <a:chExt cx="8640360" cy="4869000"/>
          </a:xfrm>
        </p:grpSpPr>
        <p:sp>
          <p:nvSpPr>
            <p:cNvPr id="49" name="TextBox 2"/>
            <p:cNvSpPr/>
            <p:nvPr/>
          </p:nvSpPr>
          <p:spPr>
            <a:xfrm>
              <a:off x="312120" y="5715000"/>
              <a:ext cx="86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You will be given a sheet of A4 square paper. This will be your farm yard spa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3" descr=""/>
            <p:cNvPicPr/>
            <p:nvPr/>
          </p:nvPicPr>
          <p:blipFill>
            <a:blip r:embed="rId1"/>
            <a:stretch/>
          </p:blipFill>
          <p:spPr>
            <a:xfrm>
              <a:off x="1643040" y="1214280"/>
              <a:ext cx="5857920" cy="422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TextBox 4"/>
          <p:cNvSpPr/>
          <p:nvPr/>
        </p:nvSpPr>
        <p:spPr>
          <a:xfrm>
            <a:off x="4243680" y="0"/>
            <a:ext cx="4836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: Think about perimeter and area in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643040" y="1214280"/>
            <a:ext cx="5857920" cy="4229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5921640" y="1571760"/>
            <a:ext cx="1139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ic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2773800" y="2786040"/>
            <a:ext cx="686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500040" y="564372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ou will have to divide up the paper into the sections you want and add labels and a bit of colo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4243680" y="0"/>
            <a:ext cx="4836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: Think about perimeter and area in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643040" y="1214280"/>
            <a:ext cx="5857920" cy="4229280"/>
          </a:xfrm>
          <a:prstGeom prst="rect">
            <a:avLst/>
          </a:prstGeom>
          <a:ln w="0">
            <a:noFill/>
          </a:ln>
        </p:spPr>
      </p:pic>
      <p:sp>
        <p:nvSpPr>
          <p:cNvPr id="58" name="TextBox 7"/>
          <p:cNvSpPr/>
          <p:nvPr/>
        </p:nvSpPr>
        <p:spPr>
          <a:xfrm>
            <a:off x="5921640" y="1571760"/>
            <a:ext cx="1139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ic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2773800" y="2786040"/>
            <a:ext cx="686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10"/>
          <p:cNvSpPr/>
          <p:nvPr/>
        </p:nvSpPr>
        <p:spPr>
          <a:xfrm flipH="1">
            <a:off x="5357880" y="1214280"/>
            <a:ext cx="1440" cy="121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12"/>
          <p:cNvSpPr/>
          <p:nvPr/>
        </p:nvSpPr>
        <p:spPr>
          <a:xfrm>
            <a:off x="5357880" y="2428920"/>
            <a:ext cx="2143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5"/>
          <p:cNvSpPr/>
          <p:nvPr/>
        </p:nvSpPr>
        <p:spPr>
          <a:xfrm>
            <a:off x="1489680" y="571680"/>
            <a:ext cx="61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f you have animals then you will need to fence them 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4243680" y="0"/>
            <a:ext cx="4836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: Think about perimeter and area in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643040" y="1214280"/>
            <a:ext cx="5857920" cy="4229280"/>
          </a:xfrm>
          <a:prstGeom prst="rect">
            <a:avLst/>
          </a:prstGeom>
          <a:ln w="0">
            <a:noFill/>
          </a:ln>
        </p:spPr>
      </p:pic>
      <p:sp>
        <p:nvSpPr>
          <p:cNvPr id="65" name="TextBox 7"/>
          <p:cNvSpPr/>
          <p:nvPr/>
        </p:nvSpPr>
        <p:spPr>
          <a:xfrm>
            <a:off x="5921640" y="1571760"/>
            <a:ext cx="1139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ic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2773800" y="2786040"/>
            <a:ext cx="686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0"/>
          <p:cNvSpPr/>
          <p:nvPr/>
        </p:nvSpPr>
        <p:spPr>
          <a:xfrm flipH="1">
            <a:off x="5357880" y="1214280"/>
            <a:ext cx="1440" cy="121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12"/>
          <p:cNvSpPr/>
          <p:nvPr/>
        </p:nvSpPr>
        <p:spPr>
          <a:xfrm>
            <a:off x="5357880" y="2428920"/>
            <a:ext cx="2143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5"/>
          <p:cNvSpPr/>
          <p:nvPr/>
        </p:nvSpPr>
        <p:spPr>
          <a:xfrm>
            <a:off x="1428480" y="5643720"/>
            <a:ext cx="637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ou can assume there is already a fence around the fa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4243680" y="0"/>
            <a:ext cx="4836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: Think about perimeter and area in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643040" y="1214280"/>
            <a:ext cx="5857920" cy="4229280"/>
          </a:xfrm>
          <a:prstGeom prst="rect">
            <a:avLst/>
          </a:prstGeom>
          <a:ln w="0">
            <a:noFill/>
          </a:ln>
        </p:spPr>
      </p:pic>
      <p:sp>
        <p:nvSpPr>
          <p:cNvPr id="72" name="TextBox 7"/>
          <p:cNvSpPr/>
          <p:nvPr/>
        </p:nvSpPr>
        <p:spPr>
          <a:xfrm>
            <a:off x="5921640" y="1571760"/>
            <a:ext cx="1139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ic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2773800" y="2786040"/>
            <a:ext cx="686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10"/>
          <p:cNvSpPr/>
          <p:nvPr/>
        </p:nvSpPr>
        <p:spPr>
          <a:xfrm flipH="1">
            <a:off x="5357880" y="1214280"/>
            <a:ext cx="1440" cy="121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12"/>
          <p:cNvSpPr/>
          <p:nvPr/>
        </p:nvSpPr>
        <p:spPr>
          <a:xfrm>
            <a:off x="5357880" y="2428920"/>
            <a:ext cx="2143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5"/>
          <p:cNvSpPr/>
          <p:nvPr/>
        </p:nvSpPr>
        <p:spPr>
          <a:xfrm>
            <a:off x="714240" y="42876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re is limit on the fencing you have available. You can only draw on 150 of the 1cm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4243680" y="0"/>
            <a:ext cx="4836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: Think about perimeter and area in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4"/>
          <p:cNvSpPr/>
          <p:nvPr/>
        </p:nvSpPr>
        <p:spPr>
          <a:xfrm>
            <a:off x="4243680" y="0"/>
            <a:ext cx="4836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: Think about perimeter and area in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8"/>
          <p:cNvGrpSpPr/>
          <p:nvPr/>
        </p:nvGrpSpPr>
        <p:grpSpPr>
          <a:xfrm>
            <a:off x="571680" y="642960"/>
            <a:ext cx="8143560" cy="2208240"/>
            <a:chOff x="571680" y="642960"/>
            <a:chExt cx="8143560" cy="2208240"/>
          </a:xfrm>
        </p:grpSpPr>
        <p:sp>
          <p:nvSpPr>
            <p:cNvPr id="80" name="TextBox 1"/>
            <p:cNvSpPr/>
            <p:nvPr/>
          </p:nvSpPr>
          <p:spPr>
            <a:xfrm>
              <a:off x="2714760" y="1357200"/>
              <a:ext cx="6000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Each square will have a value that it will add or take away from the farm depending on what you put on i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Picture 6" descr="http://www.prime-targeting.com/wp-content/uploads/2009/04/pound.jpg"/>
            <p:cNvPicPr/>
            <p:nvPr/>
          </p:nvPicPr>
          <p:blipFill>
            <a:blip r:embed="rId1"/>
            <a:stretch/>
          </p:blipFill>
          <p:spPr>
            <a:xfrm>
              <a:off x="571680" y="642960"/>
              <a:ext cx="2214360" cy="220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" name="Group 9"/>
          <p:cNvGrpSpPr/>
          <p:nvPr/>
        </p:nvGrpSpPr>
        <p:grpSpPr>
          <a:xfrm>
            <a:off x="428760" y="2714760"/>
            <a:ext cx="7500960" cy="1904760"/>
            <a:chOff x="428760" y="2714760"/>
            <a:chExt cx="7500960" cy="1904760"/>
          </a:xfrm>
        </p:grpSpPr>
        <p:sp>
          <p:nvSpPr>
            <p:cNvPr id="83" name="TextBox 2"/>
            <p:cNvSpPr/>
            <p:nvPr/>
          </p:nvSpPr>
          <p:spPr>
            <a:xfrm>
              <a:off x="428760" y="3286080"/>
              <a:ext cx="518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For example, each square of carrots you grow will add £10 to your total valu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Picture 8" descr="http://www.businesspundit.com/wp-content/uploads/2009/03/carrots.jpg"/>
            <p:cNvPicPr/>
            <p:nvPr/>
          </p:nvPicPr>
          <p:blipFill>
            <a:blip r:embed="rId2"/>
            <a:stretch/>
          </p:blipFill>
          <p:spPr>
            <a:xfrm>
              <a:off x="5643720" y="2714760"/>
              <a:ext cx="2286000" cy="190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Group 10"/>
          <p:cNvGrpSpPr/>
          <p:nvPr/>
        </p:nvGrpSpPr>
        <p:grpSpPr>
          <a:xfrm>
            <a:off x="571680" y="4357800"/>
            <a:ext cx="8198280" cy="2286000"/>
            <a:chOff x="571680" y="4357800"/>
            <a:chExt cx="8198280" cy="2286000"/>
          </a:xfrm>
        </p:grpSpPr>
        <p:sp>
          <p:nvSpPr>
            <p:cNvPr id="86" name="TextBox 3"/>
            <p:cNvSpPr/>
            <p:nvPr/>
          </p:nvSpPr>
          <p:spPr>
            <a:xfrm>
              <a:off x="3153240" y="5357880"/>
              <a:ext cx="56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You want to maximise the total value of your far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10" descr="http://www.intelligentvending.co.uk/files/graph.jpg"/>
            <p:cNvPicPr/>
            <p:nvPr/>
          </p:nvPicPr>
          <p:blipFill>
            <a:blip r:embed="rId3"/>
            <a:stretch/>
          </p:blipFill>
          <p:spPr>
            <a:xfrm>
              <a:off x="571680" y="4357800"/>
              <a:ext cx="2293920" cy="228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857160" y="1643040"/>
            <a:ext cx="250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ou will be given this sheet that tells you how much value you get for each animal square or vegetable square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Bent Arrow 3"/>
          <p:cNvSpPr/>
          <p:nvPr/>
        </p:nvSpPr>
        <p:spPr>
          <a:xfrm flipV="1">
            <a:off x="1928880" y="3429000"/>
            <a:ext cx="2286000" cy="1357200"/>
          </a:xfrm>
          <a:prstGeom prst="pi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4243680" y="0"/>
            <a:ext cx="4836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: Think about perimeter and area in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4429080" y="928800"/>
            <a:ext cx="3867120" cy="53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2"/>
          <p:cNvSpPr/>
          <p:nvPr/>
        </p:nvSpPr>
        <p:spPr>
          <a:xfrm>
            <a:off x="428760" y="10000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re are a few constraints when building a fa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3218400" y="1857240"/>
            <a:ext cx="53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 will quickly go over a few of the main po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4243680" y="0"/>
            <a:ext cx="4836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: Think about perimeter and area in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8"/>
          <p:cNvGrpSpPr/>
          <p:nvPr/>
        </p:nvGrpSpPr>
        <p:grpSpPr>
          <a:xfrm>
            <a:off x="1857240" y="857160"/>
            <a:ext cx="6645240" cy="5639040"/>
            <a:chOff x="1857240" y="857160"/>
            <a:chExt cx="6645240" cy="5639040"/>
          </a:xfrm>
        </p:grpSpPr>
        <p:sp>
          <p:nvSpPr>
            <p:cNvPr id="96" name="TextBox 4"/>
            <p:cNvSpPr/>
            <p:nvPr/>
          </p:nvSpPr>
          <p:spPr>
            <a:xfrm>
              <a:off x="3214440" y="857160"/>
              <a:ext cx="528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You will be given a sheet with all the things you need to consider on i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8" descr=""/>
            <p:cNvPicPr/>
            <p:nvPr/>
          </p:nvPicPr>
          <p:blipFill>
            <a:blip r:embed="rId1"/>
            <a:stretch/>
          </p:blipFill>
          <p:spPr>
            <a:xfrm>
              <a:off x="1857240" y="2571480"/>
              <a:ext cx="5229360" cy="3924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53:45Z</dcterms:created>
  <dc:creator>Hoskin</dc:creator>
  <dc:description/>
  <dc:language>en-US</dc:language>
  <cp:lastModifiedBy>Jean Gray</cp:lastModifiedBy>
  <dcterms:modified xsi:type="dcterms:W3CDTF">2012-08-21T00:50:29Z</dcterms:modified>
  <cp:revision>24</cp:revision>
  <dc:subject/>
  <dc:title>Slide 1</dc:title>
</cp:coreProperties>
</file>